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7ADB-65BA-4A21-BF53-238C5D4A0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9388-4B13-4469-95EA-10596727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2E83-B2C2-4A0D-886B-869F12D5F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4524-339A-43F9-AA1E-1F7F18740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4AE1-312F-4F33-B3A0-86F5734C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6EF9-B2C7-459A-BC60-E4F0A716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DF1D-D7C4-417F-809E-88A7E893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C311-C9DF-4E9A-8AE2-286D3CD4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BD16-CDC0-4CBA-9D6A-202C8377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F9C3-CD35-433C-B760-3076F192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B8C8-B8A1-4201-A7B7-BDF0ED70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44DA-C295-42A5-8210-72CA630D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240B-5212-4880-A962-670F8A793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9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371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Variable Selectio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and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ontrol of Confound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533520" y="609480"/>
            <a:ext cx="822960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58210" r="0" b="19501"/>
          <a:stretch/>
        </p:blipFill>
        <p:spPr>
          <a:xfrm>
            <a:off x="609480" y="198108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0" t="0" r="0" b="90102"/>
          <a:stretch/>
        </p:blipFill>
        <p:spPr>
          <a:xfrm>
            <a:off x="611280" y="1295280"/>
            <a:ext cx="8229600" cy="704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rcRect l="19446" t="80508" r="58337" b="7736"/>
          <a:stretch/>
        </p:blipFill>
        <p:spPr>
          <a:xfrm>
            <a:off x="3962520" y="4381560"/>
            <a:ext cx="182880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57869" r="0" b="8030"/>
          <a:stretch/>
        </p:blipFill>
        <p:spPr>
          <a:xfrm>
            <a:off x="611280" y="1504800"/>
            <a:ext cx="8210520" cy="2256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rcRect l="0" t="0" r="0" b="90102"/>
          <a:stretch/>
        </p:blipFill>
        <p:spPr>
          <a:xfrm>
            <a:off x="611280" y="838080"/>
            <a:ext cx="8229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57869" r="0" b="8030"/>
          <a:stretch/>
        </p:blipFill>
        <p:spPr>
          <a:xfrm>
            <a:off x="611280" y="1504800"/>
            <a:ext cx="8210520" cy="2256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0" t="0" r="0" b="90102"/>
          <a:stretch/>
        </p:blipFill>
        <p:spPr>
          <a:xfrm>
            <a:off x="611280" y="838080"/>
            <a:ext cx="8229600" cy="704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rcRect l="20374" t="80508" r="58337" b="7736"/>
          <a:stretch/>
        </p:blipFill>
        <p:spPr>
          <a:xfrm>
            <a:off x="3886200" y="4572000"/>
            <a:ext cx="17524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58163" r="0" b="7736"/>
          <a:stretch/>
        </p:blipFill>
        <p:spPr>
          <a:xfrm>
            <a:off x="457200" y="2133720"/>
            <a:ext cx="8381880" cy="2438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0" r="0" b="90102"/>
          <a:stretch/>
        </p:blipFill>
        <p:spPr>
          <a:xfrm>
            <a:off x="457200" y="1447920"/>
            <a:ext cx="83059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58163" r="0" b="7736"/>
          <a:stretch/>
        </p:blipFill>
        <p:spPr>
          <a:xfrm>
            <a:off x="304920" y="1600200"/>
            <a:ext cx="861048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rcRect l="0" t="0" r="0" b="90102"/>
          <a:stretch/>
        </p:blipFill>
        <p:spPr>
          <a:xfrm>
            <a:off x="325440" y="990720"/>
            <a:ext cx="8564400" cy="609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rcRect l="40713" t="81399" r="36284" b="7736"/>
          <a:stretch/>
        </p:blipFill>
        <p:spPr>
          <a:xfrm>
            <a:off x="3429000" y="4952880"/>
            <a:ext cx="19810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58163" r="0" b="7736"/>
          <a:stretch/>
        </p:blipFill>
        <p:spPr>
          <a:xfrm>
            <a:off x="322200" y="1600200"/>
            <a:ext cx="8574120" cy="2209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0" t="0" r="0" b="90102"/>
          <a:stretch/>
        </p:blipFill>
        <p:spPr>
          <a:xfrm>
            <a:off x="325440" y="990720"/>
            <a:ext cx="85644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58163" r="0" b="7736"/>
          <a:stretch/>
        </p:blipFill>
        <p:spPr>
          <a:xfrm>
            <a:off x="322200" y="1600200"/>
            <a:ext cx="8574120" cy="2209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rcRect l="0" t="0" r="0" b="90102"/>
          <a:stretch/>
        </p:blipFill>
        <p:spPr>
          <a:xfrm>
            <a:off x="325440" y="990720"/>
            <a:ext cx="8564400" cy="609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rcRect l="20374" t="80508" r="58337" b="7736"/>
          <a:stretch/>
        </p:blipFill>
        <p:spPr>
          <a:xfrm>
            <a:off x="3886200" y="4572000"/>
            <a:ext cx="17524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0" r="0" b="19776"/>
          <a:stretch/>
        </p:blipFill>
        <p:spPr>
          <a:xfrm>
            <a:off x="533520" y="533520"/>
            <a:ext cx="8099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22080"/>
          <a:stretch/>
        </p:blipFill>
        <p:spPr>
          <a:xfrm>
            <a:off x="914400" y="533520"/>
            <a:ext cx="7315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5766"/>
          <a:stretch/>
        </p:blipFill>
        <p:spPr>
          <a:xfrm>
            <a:off x="457200" y="60948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533520" y="322200"/>
            <a:ext cx="8229600" cy="60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380880" y="685800"/>
            <a:ext cx="838224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609480" y="533520"/>
            <a:ext cx="7925040" cy="5937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781680" y="5791320"/>
            <a:ext cx="175284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7512"/>
          <a:stretch/>
        </p:blipFill>
        <p:spPr>
          <a:xfrm>
            <a:off x="304920" y="1752480"/>
            <a:ext cx="8381880" cy="1524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0880" y="3505320"/>
            <a:ext cx="8229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90538"/>
          <a:stretch/>
        </p:blipFill>
        <p:spPr>
          <a:xfrm>
            <a:off x="609480" y="1600200"/>
            <a:ext cx="8078760" cy="685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0" t="21322" r="0" b="69217"/>
          <a:stretch/>
        </p:blipFill>
        <p:spPr>
          <a:xfrm>
            <a:off x="608040" y="2257560"/>
            <a:ext cx="8078760" cy="561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09480" y="2971800"/>
            <a:ext cx="7925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90538"/>
          <a:stretch/>
        </p:blipFill>
        <p:spPr>
          <a:xfrm>
            <a:off x="609480" y="1676520"/>
            <a:ext cx="7848720" cy="639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0" t="29608" r="0" b="62116"/>
          <a:stretch/>
        </p:blipFill>
        <p:spPr>
          <a:xfrm>
            <a:off x="609480" y="2273400"/>
            <a:ext cx="7848720" cy="469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09480" y="2819520"/>
            <a:ext cx="7772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kleinb</cp:lastModifiedBy>
  <dcterms:modified xsi:type="dcterms:W3CDTF">2003-11-18T15:46:50Z</dcterms:modified>
  <cp:revision>36</cp:revision>
  <dc:subject/>
  <dc:title>PowerPoint Presentation</dc:title>
</cp:coreProperties>
</file>